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4966-1740-44B5-AB08-FDFDEA1F75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1734-126E-47A7-A1D2-B4788F53A3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D9A0-5783-4FBE-958D-17216BCCEA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729D-F20A-4397-AE65-D44E22A781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page 35 for original wording of 1648 Code</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6D0F-0C65-4679-9469-9F668FB215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05039-A894-4932-8A36-53314C466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7652-5C3E-44E3-9277-AC7B52B7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325D6-7A12-4973-A754-B058DC3EC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A400-6E5E-4D74-8151-EE12C0C3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5683-2143-40F5-A0D3-AE900100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1C0C-911F-4642-A4FA-1B891355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E3FA-8E09-4B72-B9A3-B146C3C4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899C-996D-4155-9745-B22098692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D24A-2E52-4C31-9B14-8CE5A83D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3D6B5-2560-4031-99EE-817881CB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33BA5-4C5B-4963-A5AA-532F0C5A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2E302-32B1-432B-B601-6FF2C8C6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2</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Violence in the Family</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0A5E-2E01-409B-BA4B-A15AACBB54B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Native Americans</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ve American societies were matriarchal.</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uropean settlers did not approve of the Native American customs and began to change them by removing women’s rights and forcing children to attend boarding schools where they were beaten and learned that violence was an acceptable form of social control. </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ehind Closed Door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1870s, judges no longer allowed the husband to claim the legal right to beat his wif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socially repugnant in the U.S., battering continued behind closed doo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the “stitch rule” and the “curtain rule” were informally used by police to determine whether or not to make an arrest in a domestic violence cas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ehind Closed Doors</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fe-battering and child abuse emerged as social issues in the 1960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usal abuse was normally classified as a misdemeanor and police were not allowed to intervene unless they witnessed the abus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e officers were trained to separate the parties for a cooling-off period or officers provided ‘counsel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legislation was needed to help victims but debates centered on what type of intervention would be most appropriate.</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 Today</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orms of violence are criminal and some are not. The Federal system and each state has their own definitions and legisl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be considered family violence, the act must be forbidden by law and the perpetrator must be related to the victim in some wa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s are from every walk of life: rich and poor, every race and religion, men and women, lesbian and gay, married or dating, young or old.</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imate Partner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imate partner violence </a:t>
            </a:r>
            <a:r>
              <a:rPr b="0" lang="en-US" sz="2400" spc="-1" strike="noStrike">
                <a:solidFill>
                  <a:srgbClr val="000000"/>
                </a:solidFill>
                <a:latin typeface="Verdana"/>
              </a:rPr>
              <a:t>refers to violence committed within an adult intimate relationship, regardless of gender, and generally is part of an ongoing complex pattern of violent behavio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may be accomplished through economic forms, or sabotaging employment, housing, or educational opportuniti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isolation is common. Physical or sexual assaults may occu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checked, domestic violence usually increases in frequency and severity.</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Abuse</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ild abuse and neglect</a:t>
            </a:r>
            <a:r>
              <a:rPr b="0" lang="en-US" sz="2400" spc="-1" strike="noStrike">
                <a:solidFill>
                  <a:srgbClr val="000000"/>
                </a:solidFill>
                <a:latin typeface="Verdana"/>
              </a:rPr>
              <a:t> refers to any act committed against a child by a caretaker that causes death, harm, or risk of harm—physical, sexual, or psychological, as well as failure to provide car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state has a department devoted to the protection of children.</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Abuse</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levels of protectio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child protective servic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minal: abusers may receive fines or jail t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maltreatment occurs at higher rates than intimate partner violenc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lder Abuse</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der abuse </a:t>
            </a:r>
            <a:r>
              <a:rPr b="0" lang="en-US" sz="2400" spc="-1" strike="noStrike">
                <a:solidFill>
                  <a:srgbClr val="000000"/>
                </a:solidFill>
                <a:latin typeface="Verdana"/>
              </a:rPr>
              <a:t>may involve physical, sexual, or emotional/psychological violence and neglect, abandonment, or financial exploitation.</a:t>
            </a:r>
            <a:endParaRPr b="0" lang="en-US" sz="2400" spc="-1" strike="noStrike">
              <a:solidFill>
                <a:srgbClr val="000000"/>
              </a:solidFill>
              <a:latin typeface="Verdana"/>
            </a:endParaRPr>
          </a:p>
          <a:p>
            <a:pPr marL="298440" indent="-2984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rimary forms are domestic and institutional.</a:t>
            </a:r>
            <a:endParaRPr b="0" lang="en-US" sz="2400" spc="-1" strike="noStrike">
              <a:solidFill>
                <a:srgbClr val="000000"/>
              </a:solidFill>
              <a:latin typeface="Verdana"/>
            </a:endParaRPr>
          </a:p>
          <a:p>
            <a:pPr marL="298440" indent="-2984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can be either criminal or civil. </a:t>
            </a:r>
            <a:endParaRPr b="0" lang="en-US" sz="2400" spc="-1" strike="noStrike">
              <a:solidFill>
                <a:srgbClr val="000000"/>
              </a:solidFill>
              <a:latin typeface="Verdana"/>
            </a:endParaRPr>
          </a:p>
          <a:p>
            <a:pPr marL="298440" indent="-298440">
              <a:spcBef>
                <a:spcPts val="49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may require social service intervention and mandated reporting by officials; the requirements vary greatly from state to state.</a:t>
            </a:r>
            <a:endParaRPr b="0" lang="en-US" sz="24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Extent of Harm</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e cause that a crime has been committed should be the standard for law enforcement to arrest, not the amount of physical harm to the victi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rest of the perpetrator should not be viewed as the punishment; it is a legal interven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unishment is decided by the courts.</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Extent of Harm</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ct must be prohibited by law. For example: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i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tt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it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ing weapon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ass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xual abuse</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l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lling hair</a:t>
            </a: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early social-legal history of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the historical significance of social tolerance for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be the primary categories of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what constitutes a domestic relationship.</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four major types of violence that occur in families.</a:t>
            </a:r>
            <a:endParaRPr b="0" lang="en-US" sz="2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Relationships</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omestic or family relationship is typically defined by blood, marriage, relationship, and cohabit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 legal definitions vary slightly from state to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sex relationships where the persons reside as if they were married are considered to be domestic.</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ffender is not determined by his or her gender, size, or age, but by the relationship of victim and offender.</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mmon Term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glect</a:t>
            </a:r>
            <a:r>
              <a:rPr b="0" lang="en-US" sz="2400" spc="-1" strike="noStrike">
                <a:solidFill>
                  <a:srgbClr val="000000"/>
                </a:solidFill>
                <a:latin typeface="Verdana"/>
              </a:rPr>
              <a:t> is defined as failure or refusal to provide care or services for a person when there is an obligation to do so.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abuse </a:t>
            </a:r>
            <a:r>
              <a:rPr b="0" lang="en-US" sz="2400" spc="-1" strike="noStrike">
                <a:solidFill>
                  <a:srgbClr val="000000"/>
                </a:solidFill>
                <a:latin typeface="Verdana"/>
              </a:rPr>
              <a:t>is the use of force or threat of force that may result in bodily injury, physical pain, or impairm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sychological abuse </a:t>
            </a:r>
            <a:r>
              <a:rPr b="0" lang="en-US" sz="2400" spc="-1" strike="noStrike">
                <a:solidFill>
                  <a:srgbClr val="000000"/>
                </a:solidFill>
                <a:latin typeface="Verdana"/>
              </a:rPr>
              <a:t>is the intentional infliction of anguish, pain, or distress designed to control the victi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xual abuse </a:t>
            </a:r>
            <a:r>
              <a:rPr b="0" lang="en-US" sz="2400" spc="-1" strike="noStrike">
                <a:solidFill>
                  <a:srgbClr val="000000"/>
                </a:solidFill>
                <a:latin typeface="Verdana"/>
              </a:rPr>
              <a:t>is nonconsensual sexual contact of any kind.</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clusions</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minal justice community has been identified as the most logical source of protection and empowerm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e officers are encouraged via new laws to enforce the laws regardless of the relationship of the victim and offend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mandatory arrest or preferred arrest policies are includ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o not know the full extent of family violence, but we know there is a problem of violence that has invaded the homes of the U.S.</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was not considered a pervasive problem until recentl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social behavior is studied in sociology, psychology, and anthropology—the social scienc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hapter examines the family and family violence using a historical perspectiv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will also cover the terminology used in the field of family violen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ocial-Legal History</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ination of men over women and children has a strong historical found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triarchy</a:t>
            </a:r>
            <a:r>
              <a:rPr b="0" lang="en-US" sz="2400" spc="-1" strike="noStrike">
                <a:solidFill>
                  <a:srgbClr val="000000"/>
                </a:solidFill>
                <a:latin typeface="Verdana"/>
              </a:rPr>
              <a:t> refers to a social system that recognizes the complete dominance of men over women, typically strengthened by law in addition to custom and relig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e of Hammurabi had an extensive body of law relating to family matt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con wrote the first laws in Athens, Greece around 621 B.C. and they were later built upon by Solon around 594 B.C.</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reece and Rom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both empires a woman was treated as the property of either her father or husband.</a:t>
            </a:r>
            <a:endParaRPr b="0" lang="en-US" sz="2400" spc="-1" strike="noStrike">
              <a:solidFill>
                <a:srgbClr val="000000"/>
              </a:solidFill>
              <a:latin typeface="Verdana"/>
            </a:endParaRPr>
          </a:p>
          <a:p>
            <a:pPr marL="343080" indent="-34308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could be physically punished by either her father or husband, and could be killed for the smallest of offenses.</a:t>
            </a:r>
            <a:endParaRPr b="0" lang="en-US" sz="2400" spc="-1" strike="noStrike">
              <a:solidFill>
                <a:srgbClr val="000000"/>
              </a:solidFill>
              <a:latin typeface="Verdana"/>
            </a:endParaRPr>
          </a:p>
          <a:p>
            <a:pPr marL="343080" indent="-34308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did not participate in government or court proceedings.</a:t>
            </a:r>
            <a:endParaRPr b="0" lang="en-US" sz="2400" spc="-1" strike="noStrike">
              <a:solidFill>
                <a:srgbClr val="000000"/>
              </a:solidFill>
              <a:latin typeface="Verdana"/>
            </a:endParaRPr>
          </a:p>
          <a:p>
            <a:pPr marL="343080" indent="-343080">
              <a:spcBef>
                <a:spcPts val="49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could only be sought by the husband.</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itish Common Law</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riarchy is dominant in Western civilization. Under common law, women and children were no longer viewed as property, but the results were the sam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on marriage a man and woman become one but the rights of the woman are then subordinate to those of the mal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evidence of some legal restrictions on the extent to which a wife might be chastised. A husband could not beat his wife but was limited to admonition and confinement. </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rench Law</a:t>
            </a:r>
            <a:endParaRPr b="0" lang="en-US" sz="4000" spc="-1" strike="noStrike">
              <a:solidFill>
                <a:srgbClr val="ffffff"/>
              </a:solidFill>
              <a:latin typeface="Verdana"/>
            </a:endParaRPr>
          </a:p>
        </p:txBody>
      </p:sp>
      <p:sp>
        <p:nvSpPr>
          <p:cNvPr id="157"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polean formalized the civil code in France:</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were made legal minors for their entire lives and could be beaten, punched, and permanently disfigur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poleonic Code influenced French, Swiss, Italian, and German law.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was a rare intervention and only came when beatings reached the level of attempted murder.</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America</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sence of specific legislation on wife-beating implies a reliance on English common law.</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ssachusetts Code of 1648 provided that a married woman should be free from physical correction by her husban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merican Revolution weakened earlier gains toward protections for battered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radley v. State </a:t>
            </a:r>
            <a:r>
              <a:rPr b="0" lang="en-US" sz="2400" spc="-1" strike="noStrike">
                <a:solidFill>
                  <a:srgbClr val="000000"/>
                </a:solidFill>
                <a:latin typeface="Verdana"/>
              </a:rPr>
              <a:t>(1824) declared that wife-beating was a husband’s right.</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frican Americans</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aves had no protections and were subjected to the sexual and economic desires of their owner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the Civil War, African Americans were granted the right to marry one another.</a:t>
            </a: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3:58:17Z</dcterms:modified>
  <cp:revision>63</cp:revision>
  <dc:subject/>
  <dc:title>Slide 1</dc:title>
</cp:coreProperties>
</file>